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1B9C-7D62-4481-B028-E5C4BB0066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B708-2779-4C8C-9C59-EF5D35EC20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A24B-1AE4-4784-86E9-D759AAE140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3563-BF65-4559-92D5-BE5F31865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0975-7903-4CEB-ACE0-EAFAE379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B314-EFD8-4622-A3F2-5ADE34811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4D24-1B01-4C9A-B8A5-A63DD527E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7435-F851-46DA-8C1C-194CA7F16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AB46-421C-40D2-8F0A-E02FBA2F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A016-47DE-4B4C-9C8F-16C2E1C2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D62D-602A-478E-B86D-76DFCC82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7DDB-80AF-48E3-9D61-B7ED93DA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6E1D-3E2A-45E6-BA43-2A3F55BF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A1FE-E9F1-41D2-86A2-AD6D8DB3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AA0F-7399-4C3A-88AD-142A3595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ABD7-CD96-43F1-AAFF-3D689E28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A8F6-2BCB-4BD8-ABC5-54B8F808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558B-C754-4859-AF1B-F94DB768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E626-DF17-4725-89B2-CB7EA8353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13FA-C61D-44AD-9A56-3B214FFFA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2DF6-E2C4-4D75-BC02-28314425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9AF0-A392-4959-B130-840AF8E7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8CF2-90B9-4F04-BF9D-AB641070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3B76-52A2-4DD7-BAC7-EC26B983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AB38-3A02-4CE2-879F-5AD2D5DE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D170-1FC9-455C-A244-F15E3D81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93A3-C2B2-4226-AAA1-79A5EF68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20EE-995A-4778-94BD-B0A2EDFE8A92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F234-5080-4057-B66B-001F895B4541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PowerPoin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affaele Mi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afmiele@unina.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Inserire una diapositiv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19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enu Inserisci – Nuova diaposi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19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19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’ possibile scegliere anche il layo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Stil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vogliamo ora usare gli stili (neretto, corsivo, sottolineato e ombreggiato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Esempio : stili - </a:t>
            </a: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stili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it-IT" sz="2100" spc="-1" strike="noStrike" u="sng">
                <a:solidFill>
                  <a:srgbClr val="000000"/>
                </a:solidFill>
                <a:uFillTx/>
                <a:latin typeface="Arial"/>
              </a:rPr>
              <a:t>stili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sti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che si ottengono, rispettivamente, selezionando la  parola stili per poi cliccare su </a:t>
            </a: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1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 oppure 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nella seconda riga orizzontale del menù dopo la finestra della dimensione del font seleziona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tornare al valore originale, vale a dire, titolo in neretto e salva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Allineare il test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2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nelle presentazioni in genere si adoperano delle righe di testo con delle giustificazioni (a sinistra come quella attuale, a destra o centrale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se vogliamo provare basterà cliccare sulla icona corrispondente che si trova a destra della icona per lo stile ombreggia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Non dimentichiamo di salvare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Elenchi puntati e numerat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abbiamo visto in questa presentazione che i pallini a sinistra delle linee di testo servono per individuarle meglio. Un blocco di testo organizzato in questo modo è detto “</a:t>
            </a:r>
            <a:r>
              <a:rPr b="0" i="1" lang="it-IT" sz="2100" spc="-1" strike="noStrike">
                <a:solidFill>
                  <a:srgbClr val="000000"/>
                </a:solidFill>
                <a:latin typeface="Arial"/>
              </a:rPr>
              <a:t>elenco puntato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possono escludersi o inserirsi mediante il clic sull’icona dell’elenco puntato (di solito a destra di quelle per l’allineamento del testo). Cliccando sull’icona alla sua sinistra otteniamo un </a:t>
            </a:r>
            <a:r>
              <a:rPr b="0" i="1" lang="it-IT" sz="2100" spc="-1" strike="noStrike">
                <a:solidFill>
                  <a:srgbClr val="000000"/>
                </a:solidFill>
                <a:latin typeface="Arial"/>
              </a:rPr>
              <a:t>elenco numera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ricliccando sulla stessa icona riotteniamo i punti elenco di prim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Formato elenchi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1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Vogliamo ora modificare i punti elenco, allora ricorriamo al menu </a:t>
            </a:r>
            <a:r>
              <a:rPr b="0" lang="it-IT" sz="3000" spc="-1" strike="noStrike">
                <a:solidFill>
                  <a:srgbClr val="006633"/>
                </a:solidFill>
                <a:latin typeface="Arial"/>
              </a:rPr>
              <a:t>Formato alla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voce  </a:t>
            </a:r>
            <a:r>
              <a:rPr b="0" i="1" lang="it-IT" sz="3000" spc="-1" strike="noStrike">
                <a:solidFill>
                  <a:srgbClr val="006633"/>
                </a:solidFill>
                <a:latin typeface="Arial"/>
              </a:rPr>
              <a:t>elenchi puntati e numera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1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6633"/>
                </a:solidFill>
                <a:latin typeface="Arial"/>
              </a:rPr>
              <a:t>Possiamo modificare il formato degli elenchi puntati e numera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Posizione del testo e tabulazion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7920" indent="-7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l funzionamento è analogo a quello di Word (utilizzo del righello, inserimento delle tabulazioni, etc.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Intestazione e piè di pagin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Menu Visualizza – Intestazione e piè di pagina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E’ possibile inserire anche il numero di diaposi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6633"/>
                </a:solidFill>
                <a:latin typeface="Garamond"/>
              </a:rPr>
              <a:t>Modificare la struttura delle diapositiv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elezionando Menu Visualizza – Schema – Diapositiva possiamo modificare la struttura di tutte le slid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6633"/>
                </a:solidFill>
                <a:latin typeface="Garamond"/>
              </a:rPr>
              <a:t>Modificare l’aspetto delle diapositiv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5392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è possibile modificare la grafica (forma, colori, ombre dello sfondo) scegliendolo da una libreria che si trova nel quinto menù (Formato) alla terza voce dal basso (struttur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scegliamo il primo modello (Alta tension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così otteniamo una presentazione che, per tutte le diapositive segue il modello Alta tens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Le immagin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1752480"/>
            <a:ext cx="7832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762120" indent="-76212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6633"/>
                </a:solidFill>
                <a:latin typeface="Arial"/>
              </a:rPr>
              <a:t>Obiettivo</a:t>
            </a:r>
            <a:r>
              <a:rPr b="0" lang="it-IT" sz="3400" spc="-1" strike="noStrike">
                <a:solidFill>
                  <a:srgbClr val="000000"/>
                </a:solidFill>
                <a:latin typeface="Arial"/>
              </a:rPr>
              <a:t>: consentire di usare questo programma per gestire le immagini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6633"/>
                </a:solidFill>
                <a:latin typeface="Arial"/>
              </a:rPr>
              <a:t>Copiarle</a:t>
            </a:r>
            <a:r>
              <a:rPr b="0" lang="it-IT" sz="3400" spc="-1" strike="noStrike">
                <a:solidFill>
                  <a:srgbClr val="000000"/>
                </a:solidFill>
                <a:latin typeface="Arial"/>
              </a:rPr>
              <a:t> da altri luoghi: ClipArt, documenti Word, siti web, etc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6633"/>
                </a:solidFill>
                <a:latin typeface="Arial"/>
              </a:rPr>
              <a:t>Inserirle</a:t>
            </a:r>
            <a:r>
              <a:rPr b="0" lang="it-IT" sz="3400" spc="-1" strike="noStrike">
                <a:solidFill>
                  <a:srgbClr val="000000"/>
                </a:solidFill>
                <a:latin typeface="Arial"/>
              </a:rPr>
              <a:t> in una presentazio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Introduzio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’ un programma della suite Office di Microsoft che permette di produrre, in poco tempo, schede elettroniche di lavoro sotto forma di Presentazioni Video multimediali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Figure geometrich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rettangoli - dal menù sulla barra inferiore, scegliere l’icona rettangolo e disegnare con il mo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il riempimento ha un colore selezionabile dalla icona secchio, il bordo dalla icona pennello e lo spessore del bordo dalla prima icona di tre segmenti ner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Vale anche per tutti gli oggetti selezionabili dal menu For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Ombreggiatu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1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Per ombreggiare a colori un testo bisognerà selezionarlo e cliccare - dal menù in basso - sulla penultima icona (quadrato ombreggiato) e selezionare </a:t>
            </a:r>
            <a:r>
              <a:rPr b="0" lang="it-IT" sz="2600" spc="-1" strike="noStrike">
                <a:solidFill>
                  <a:srgbClr val="006633"/>
                </a:solidFill>
                <a:latin typeface="Arial"/>
              </a:rPr>
              <a:t>Impostazioni Ombreggiatura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per decidere il coloroe dopo avere scelto la direzione dell’ombra dallo stesso men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Immagin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1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1150920" indent="-6760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le immagini sono costituite da pixels elementi di immagine (contrazione di pi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Arial"/>
              </a:rPr>
              <a:t>ct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ure eleme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50920" indent="-6760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ogni formato specifica, in modo particolare, il n° di righe, di colonne, il n° di bits per pixel, inizio dell’immagine, ordine dei byte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50920" indent="-6760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 più comuni sono BMP, GIFF, TIFF, JPEG, MPE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50920" indent="-6760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tipicamente su web si usano GIFF e JPE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Prelevamento da Clipar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1447920"/>
            <a:ext cx="8077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per estrarre una immagine da un catalogo presente in Power Point bisogn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selezionare il menù </a:t>
            </a:r>
            <a:r>
              <a:rPr b="0" lang="it-IT" sz="3000" spc="-1" strike="noStrike">
                <a:solidFill>
                  <a:srgbClr val="006633"/>
                </a:solidFill>
                <a:latin typeface="Arial"/>
              </a:rPr>
              <a:t>Inserisc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scegliere il menù </a:t>
            </a:r>
            <a:r>
              <a:rPr b="0" lang="it-IT" sz="3000" spc="-1" strike="noStrike">
                <a:solidFill>
                  <a:srgbClr val="006633"/>
                </a:solidFill>
                <a:latin typeface="Arial"/>
              </a:rPr>
              <a:t>Immag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attivare la sua prima voce: </a:t>
            </a:r>
            <a:r>
              <a:rPr b="0" lang="it-IT" sz="3000" spc="-1" strike="noStrike">
                <a:solidFill>
                  <a:srgbClr val="006633"/>
                </a:solidFill>
                <a:latin typeface="Arial"/>
              </a:rPr>
              <a:t>Clip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6633"/>
                </a:solidFill>
                <a:latin typeface="Arial"/>
              </a:rPr>
              <a:t>Seguire le istruzioni e scegliere l’immag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Immagin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’ possibile inserire immagini anche da files. Inserisci – Immagine – d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’ anche possibile copiare e incollare immagini da altre applicazioni (navigatore web, word, etc.) tramite il drag and drop oppure l’utilizzo delle funzioni copia-taglia-incolla di window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Sfond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19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E’ possibile sia configurare uno sfond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19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192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(Formato – Sfondo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192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19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che scegliere uno sfondo particolare associato ad una struttur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192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it-IT" sz="2100" spc="-1" strike="noStrike">
                <a:solidFill>
                  <a:srgbClr val="006633"/>
                </a:solidFill>
                <a:latin typeface="Arial"/>
              </a:rPr>
              <a:t>Formato -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100" spc="-1" strike="noStrike">
                <a:solidFill>
                  <a:srgbClr val="006633"/>
                </a:solidFill>
                <a:latin typeface="Arial"/>
              </a:rPr>
              <a:t>Applica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100" spc="-1" strike="noStrike">
                <a:solidFill>
                  <a:srgbClr val="006633"/>
                </a:solidFill>
                <a:latin typeface="Arial"/>
              </a:rPr>
              <a:t>struttura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19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La presentazio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Abbiamo una sequenza di diapositiv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la si potrà visualizzare (Visualizza – presentazion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oppure si potrà vedere la struttura del documento (Visualizza – schema – Diapositiv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oppure visualizzare tutte le diapositive (Visualizza – sequenza diapositiv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infine si potrà tornare alla visualizzazione normale (Visualizza – visualizzazione normal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Effetti visiv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Utili  per focalizzare l’attenzione dell’osservatore sui punti elencat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Selezionare il testo (nella diapositiv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Scegliere </a:t>
            </a:r>
            <a:r>
              <a:rPr b="0" lang="it-IT" sz="2600" spc="-1" strike="noStrike">
                <a:solidFill>
                  <a:srgbClr val="006633"/>
                </a:solidFill>
                <a:latin typeface="Arial"/>
              </a:rPr>
              <a:t>Animazione personalizzata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dal menù </a:t>
            </a:r>
            <a:r>
              <a:rPr b="0" lang="it-IT" sz="2600" spc="-1" strike="noStrike">
                <a:solidFill>
                  <a:srgbClr val="006633"/>
                </a:solidFill>
                <a:latin typeface="Arial"/>
              </a:rPr>
              <a:t>Presenta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Selezionare il tipo di effet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ransizione diapositiv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ffetto applicato durante il passaggio da una slide all’alt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esentazione – Transizione diaposi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Personalizzare le animazion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1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’ possibile personalizzare gli effetti di animazione aggiungendo suoni cliccando con il pulsante destro sull’effetto nel frame animazione personalizzata e scegliendo “Opzioni effetto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1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19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perimentate!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Vantagg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’ estremamente diffuso (è un prodotto microsoft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urva di apprendimento bassissim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’ molto simile a wor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’ perfettamente integrato con gli altri strumenti della suite Off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Iniziam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i installa con Microsoft Off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i apre dal menu avv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enu avvio – Tutti i programmi – Microsoft Powerpo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6633"/>
                </a:solidFill>
                <a:latin typeface="Garamond"/>
              </a:rPr>
              <a:t>Cominciamo dal titol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3480" y="1830240"/>
            <a:ext cx="7164360" cy="41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Quando si vuole modificare una presentazione esistente bisognerà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it-IT" sz="3000" spc="-1" strike="noStrike">
                <a:solidFill>
                  <a:srgbClr val="006633"/>
                </a:solidFill>
                <a:latin typeface="Arial"/>
              </a:rPr>
              <a:t>selezionare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il testo del tito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it-IT" sz="3000" spc="-1" strike="noStrike">
                <a:solidFill>
                  <a:srgbClr val="006633"/>
                </a:solidFill>
                <a:latin typeface="Arial"/>
              </a:rPr>
              <a:t>scrivere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sopra il nuovo tito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it-IT" sz="3000" spc="-1" strike="noStrike">
                <a:solidFill>
                  <a:srgbClr val="006633"/>
                </a:solidFill>
                <a:latin typeface="Arial"/>
              </a:rPr>
              <a:t>salvare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la nuova presenta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1280" y="95040"/>
            <a:ext cx="790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6633"/>
                </a:solidFill>
                <a:latin typeface="Garamond"/>
              </a:rPr>
              <a:t>Cambiare il titol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cambiare il  titolo dopo averlo selezionato scrivendoci sopr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salvare, cliccando sul primo menù (</a:t>
            </a:r>
            <a:r>
              <a:rPr b="0" lang="it-IT" sz="3000" spc="-1" strike="noStrike">
                <a:solidFill>
                  <a:srgbClr val="006633"/>
                </a:solidFill>
                <a:latin typeface="Arial"/>
              </a:rPr>
              <a:t>File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), scegliendo </a:t>
            </a:r>
            <a:r>
              <a:rPr b="0" lang="it-IT" sz="3000" spc="-1" strike="noStrike">
                <a:solidFill>
                  <a:srgbClr val="006633"/>
                </a:solidFill>
                <a:latin typeface="Arial"/>
              </a:rPr>
              <a:t>Salva con nome...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riprovare con un altro tito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ri-salv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6633"/>
                </a:solidFill>
                <a:latin typeface="Garamond"/>
              </a:rPr>
              <a:t>caratter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vogliamo modificare i fonts del titol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cliccando - nella prima finestra (da sinistra, nella seconda riga di menù iconici) - sulla freccia in giù, potremo vedere tutti i font disponibili e da qui sceglie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il carattere Bookm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in questo modo passiamo d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Times New Roman (Caratteri) 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Bookman (Caratteri) possiamo ora provare con altri fonts...e salv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Caratter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752480"/>
            <a:ext cx="7696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vogliamo ora usare la seconda finestra per potere cambiare la dimensione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clicchiamo sulla freccia in giù e selezioniamo 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otterremo </a:t>
            </a:r>
            <a:r>
              <a:rPr b="0" lang="it-IT" sz="3900" spc="-1" strike="noStrike">
                <a:solidFill>
                  <a:srgbClr val="006633"/>
                </a:solidFill>
                <a:latin typeface="Arial"/>
              </a:rPr>
              <a:t>caratteri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possiamo ora provare a diminuire e quindi selezioniamo 2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otterremo </a:t>
            </a:r>
            <a:r>
              <a:rPr b="0" lang="it-IT" sz="2600" spc="-1" strike="noStrike">
                <a:solidFill>
                  <a:srgbClr val="006633"/>
                </a:solidFill>
                <a:latin typeface="Arial"/>
              </a:rPr>
              <a:t>caratter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poichè il valore standard è di 36 lo riportiamo a questa misura</a:t>
            </a:r>
            <a:r>
              <a:rPr b="0" lang="it-IT" sz="2100" spc="-1" strike="noStrike">
                <a:solidFill>
                  <a:srgbClr val="006633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Pulsanti </a:t>
            </a:r>
            <a:r>
              <a:rPr b="0" lang="it-IT" sz="5000" spc="-1" strike="noStrike">
                <a:solidFill>
                  <a:srgbClr val="006633"/>
                </a:solidFill>
                <a:latin typeface="Garamond"/>
              </a:rPr>
              <a:t>A</a:t>
            </a:r>
            <a:r>
              <a:rPr b="0" lang="it-IT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it-IT" sz="2900" spc="-1" strike="noStrike">
                <a:solidFill>
                  <a:srgbClr val="006633"/>
                </a:solidFill>
                <a:latin typeface="Garamond"/>
              </a:rPr>
              <a:t>A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le due icone seguenti consentono, in modo diretto, di aumentare le dimensioni dei fonts, da </a:t>
            </a:r>
            <a:r>
              <a:rPr b="0" lang="it-IT" sz="2600" spc="-1" strike="noStrike">
                <a:solidFill>
                  <a:srgbClr val="006633"/>
                </a:solidFill>
                <a:latin typeface="Arial"/>
              </a:rPr>
              <a:t>7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ABC123 </a:t>
            </a:r>
            <a:r>
              <a:rPr b="0" lang="it-IT" sz="10400" spc="-1" strike="noStrike">
                <a:solidFill>
                  <a:srgbClr val="000000"/>
                </a:solidFill>
                <a:latin typeface="Arial"/>
              </a:rPr>
              <a:t>fino a </a:t>
            </a:r>
            <a:r>
              <a:rPr b="0" lang="it-IT" sz="10400" spc="-1" strike="noStrike">
                <a:solidFill>
                  <a:srgbClr val="006633"/>
                </a:solidFill>
                <a:latin typeface="Arial"/>
              </a:rPr>
              <a:t>96</a:t>
            </a:r>
            <a:r>
              <a:rPr b="0" lang="it-IT" sz="10400" spc="-1" strike="noStrike">
                <a:solidFill>
                  <a:srgbClr val="000000"/>
                </a:solidFill>
                <a:latin typeface="Arial"/>
              </a:rPr>
              <a:t> e oltre!!</a:t>
            </a: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Possiamo provare e salvare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1:04:10Z</dcterms:created>
  <dc:creator>+</dc:creator>
  <dc:description/>
  <dc:language>en-US</dc:language>
  <cp:lastModifiedBy>+</cp:lastModifiedBy>
  <dcterms:modified xsi:type="dcterms:W3CDTF">2005-01-10T13:25:26Z</dcterms:modified>
  <cp:revision>17</cp:revision>
  <dc:subject/>
  <dc:title>PowerPoint</dc:title>
</cp:coreProperties>
</file>